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3B9-572B-47B6-8A3B-1711B2FA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36B-2EE6-44C3-A573-4218208E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1F6-3EC4-4CD4-ADD2-EC595067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F5D-48EA-4EEC-8864-F48A276C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EF5D-6388-4A3A-8D7A-9D575446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46B8-49BE-48AA-AC94-7EDE0EF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8B36-2F7B-434D-9B1D-27206E04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09F-7F53-402A-8A6F-0C646A0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9A86-3796-4C0F-905C-CFB3C51E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4A3F-BBA2-4A54-8761-A901A574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BCC1-72D3-4872-ADFB-87E3A41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1ED-F74A-4F4B-A600-26D3423A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10A1-96AC-47F2-95EE-E7ECC2C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A06-B627-4EC9-8955-B03FAEB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3431-E3DA-4F7A-9931-EADE5996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9FD7-A07D-4186-8230-9B307B99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7A3A-4052-4AB7-B6C3-2DA8A296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F85-68D4-4A42-82D3-20837656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4A1-F62C-4697-BA7A-59569709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937-9330-450B-8574-490ACC03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350E-E99D-4BBC-9561-A16D06A6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246-3588-497D-AE72-FD47C54E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709-CDBA-45B0-914C-3434D316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BC2-7E69-4B99-8840-7881107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D4FD-0F8A-48F7-8A58-E6F53EC162C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B2F1-01F4-4E03-8362-F9804D6E31B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 Remnant Shall Return”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cccc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Quarter 8, Lesson 17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ages 115-122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For Review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rst Jews taken into captivity by Nebuchadnezzar in 605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yrus (559-530 BC), ruler of the Medo-Persian empire, defeated the Babylonians - released captives in 538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Zerubbabel led about 50,000 Jews back  to Jerusalem in 536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-building the temple started – finished in 20 years, 516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Before the OT ended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ersians expanded their territory to Greece and to Egyp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Xerxes (486-465 BC) returned from the battle - chose Esther, a Jew, as his quee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Jews who had remained became honored people in the Persian empir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s regained their land - defeated the Persians in about 479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Before the OT ended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s also controlled Asia Minor in about 449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bout 458 BC, Ezra led 1,354 men and their families to Jerusal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teen years later (445 BC), Nehemiah returned to rebuild the walls of Jerusal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Old Testament closed about 430 BC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Persians Ruler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Zerxes II – named king by his father but murdered by a half-brother, Sogdianus, in 45 day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ogdianus murdered by a half-brother, Darius II, within 6 month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Darius II (424-405 BC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5588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ad a very fascinating wif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55880" indent="-6033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ad two sons – the weaker of the two became king, Artaxerxes Mnemo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Persians Lose Power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n..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edo-Persians slowly lost their power but remained in control of world affairs for about 100 years after the close of the O.T. (to about 331 BC)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reek Philosopher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ocrates (470 to 399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lato (428-348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ristotle (384-322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s began to slowly gain power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ir thinking and reasoning among the educated Greeks had a profound effect on the future of the Jews and the countries around them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Periods of Bible History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5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cattering of the Peopl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Exodus from Egyp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ilderness Wander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onquest of the Lan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ivided Kingdo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Judah Alon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ptivi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ars of Silen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5" repeatCount="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In this lesson, we will discuss: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ummary of events that occurred during the years of Biblical silen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ook at the state of affairs as the New Testament ope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view the state of affairs as the Old Testament clos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rophesied 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mos 8:11-12 (KJV) 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Behold, the days come, saith the Lord God, that I will send a famine in the land, not a famine of bread, nor a thirst for water,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but of hearing the words of the Lord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d they shall wander from sea to sea, and from the north even to the east, they shall run to and fro to seek the word of the Lord,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and shall not find it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asted about 400-430 year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No Biblical accounts during this peri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ular writings provide history for this peri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se writings add credibility to the Bibl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ny events are confirmed by the New Testamen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hen The N. T. Open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Roman Empire is in power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 language is universally spoke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ek translation of the Old Testament (Septuagint – meaning 70) is being us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ws were strict in following parts of the Mosaic law – sabbath day, tithing, feas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hen The N. T. Open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Various political and religious parties are prominent – Pharisees, Sadducees, Essenes, and Zealot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Herods (a family of Edomites, called Idumeans) rule over the Jew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 is called Judea - not Judah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 is prosperous and bustling with activit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hen The N. T. Opens...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ws had settled in areas around Jerusalem and Galilee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amaritans occupied the area in betwee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ws hated the Samarita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amaritans – a new breed of Israelites formed when foreigners were placed in the land by Assyria and other nations after the captivity start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Four Historical “Threads”</a:t>
            </a:r>
            <a:endParaRPr b="0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Persian history (an empire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 control for about 100 years after the O.T. clos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Grecian history (not a typical empire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lexander the Gre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Roman history (an empire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 power when N.T. bega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Jewish history (our main study)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02:03:26Z</dcterms:created>
  <dc:creator>Frank D Vines</dc:creator>
  <dc:description/>
  <dc:language>en-US</dc:language>
  <cp:lastModifiedBy>Frank D Vines</cp:lastModifiedBy>
  <dcterms:modified xsi:type="dcterms:W3CDTF">2007-02-04T20:43:50Z</dcterms:modified>
  <cp:revision>19</cp:revision>
  <dc:subject/>
  <dc:title>“A Remnant Shall Return”  Years of Sil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